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F877-F823-4A8B-81E7-CBDDE8FE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F5D-8B70-4634-9995-1216CD83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C8A-6B63-4862-9F8D-F6671473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3927-E538-4EB8-80BE-2D441B15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67F-FFDF-47A3-BDCC-253063AC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236-7A61-42F3-9F03-86250AA3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833-28F7-49A1-9BA9-381428D8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317-212F-4456-A92F-B80CA508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EA31-3F75-4FB3-B1DA-CE1E8A36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844-8E5E-4030-BE13-B472FB60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331-1DC8-4DEE-940E-6CA61A45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9ED-C3DB-44F3-A748-DEE65D65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A680-AB25-4899-A29C-4242D0D76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осистема оз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90560" y="5084640"/>
            <a:ext cx="83534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.А. Булатова, учитель начальных класс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Берёзовская средняя общеобразовательная школа №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748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Мелкие организмы, которые не могут плавать в толще воды без течения, называются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748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Мелкие организмы, которые плавают в толще воды и переносятся течениями, называются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71640" y="5013360"/>
            <a:ext cx="6912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нктон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557360"/>
            <a:ext cx="8748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К ним относятся мелкие животные и растения, которые можно рассмотреть только под микроскоп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75255" b="13610"/>
          <a:stretch/>
        </p:blipFill>
        <p:spPr>
          <a:xfrm>
            <a:off x="2144880" y="4344840"/>
            <a:ext cx="2376360" cy="2421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76880" y="4356000"/>
            <a:ext cx="2039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79996" t="4708" r="0" b="0"/>
          <a:stretch/>
        </p:blipFill>
        <p:spPr>
          <a:xfrm>
            <a:off x="468360" y="765000"/>
            <a:ext cx="4040280" cy="561672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5003640" y="825480"/>
            <a:ext cx="3671280" cy="6031800"/>
            <a:chOff x="5003640" y="825480"/>
            <a:chExt cx="3671280" cy="6031800"/>
          </a:xfrm>
        </p:grpSpPr>
        <p:pic>
          <p:nvPicPr>
            <p:cNvPr id="65" name="" descr=""/>
            <p:cNvPicPr/>
            <p:nvPr/>
          </p:nvPicPr>
          <p:blipFill>
            <a:blip r:embed="rId2"/>
            <a:srcRect l="43956" t="34096" r="37870" b="37525"/>
            <a:stretch/>
          </p:blipFill>
          <p:spPr>
            <a:xfrm>
              <a:off x="5003640" y="825480"/>
              <a:ext cx="3671280" cy="60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003640" y="6123960"/>
              <a:ext cx="354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камы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92040" y="-212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зерные производ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27284" r="60629" b="55697"/>
          <a:stretch/>
        </p:blipFill>
        <p:spPr>
          <a:xfrm>
            <a:off x="250920" y="2708280"/>
            <a:ext cx="4752720" cy="3679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0" r="63556" b="77047"/>
          <a:stretch/>
        </p:blipFill>
        <p:spPr>
          <a:xfrm>
            <a:off x="4500720" y="333360"/>
            <a:ext cx="4464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53589" t="4708" r="23605" b="0"/>
          <a:stretch/>
        </p:blipFill>
        <p:spPr>
          <a:xfrm>
            <a:off x="250920" y="189000"/>
            <a:ext cx="3836880" cy="468000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5148360" y="1484280"/>
            <a:ext cx="3673440" cy="5129280"/>
            <a:chOff x="5148360" y="1484280"/>
            <a:chExt cx="3673440" cy="512928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148360" y="1915920"/>
              <a:ext cx="3673440" cy="469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148360" y="1484280"/>
              <a:ext cx="36734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Желтая кубыш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489744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9056" t="46148" r="63645" b="40925"/>
          <a:stretch/>
        </p:blipFill>
        <p:spPr>
          <a:xfrm>
            <a:off x="468360" y="1268280"/>
            <a:ext cx="4392720" cy="277668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5076720" y="3429000"/>
            <a:ext cx="3672000" cy="3216240"/>
            <a:chOff x="5076720" y="3429000"/>
            <a:chExt cx="3672000" cy="321624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5076720" y="3500280"/>
              <a:ext cx="3672000" cy="31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076720" y="3429000"/>
              <a:ext cx="2016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Жук - плавуне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92040" y="-212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зерные потреб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6061" r="28392" b="0"/>
          <a:stretch/>
        </p:blipFill>
        <p:spPr>
          <a:xfrm>
            <a:off x="539640" y="765000"/>
            <a:ext cx="7993080" cy="55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28924" t="70243" r="0" b="0"/>
          <a:stretch/>
        </p:blipFill>
        <p:spPr>
          <a:xfrm>
            <a:off x="684360" y="907920"/>
            <a:ext cx="770400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50920" y="476280"/>
            <a:ext cx="8675640" cy="5850000"/>
            <a:chOff x="250920" y="476280"/>
            <a:chExt cx="8675640" cy="5850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4572000" y="476280"/>
              <a:ext cx="4354560" cy="585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50920" y="476280"/>
              <a:ext cx="4317840" cy="583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17352" r="65082" b="51134"/>
          <a:stretch/>
        </p:blipFill>
        <p:spPr>
          <a:xfrm>
            <a:off x="826920" y="189000"/>
            <a:ext cx="2567160" cy="309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34925" t="0" r="24449" b="73670"/>
          <a:stretch/>
        </p:blipFill>
        <p:spPr>
          <a:xfrm>
            <a:off x="4500720" y="333360"/>
            <a:ext cx="3456000" cy="2994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59013" t="33112" r="0" b="48900"/>
          <a:stretch/>
        </p:blipFill>
        <p:spPr>
          <a:xfrm>
            <a:off x="4284720" y="3933720"/>
            <a:ext cx="3995640" cy="2343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33323" t="0" r="24236" b="65910"/>
          <a:stretch/>
        </p:blipFill>
        <p:spPr>
          <a:xfrm>
            <a:off x="684360" y="3573360"/>
            <a:ext cx="28890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4172" t="11918" r="0" b="45252"/>
          <a:stretch/>
        </p:blipFill>
        <p:spPr>
          <a:xfrm>
            <a:off x="826920" y="1197000"/>
            <a:ext cx="3240360" cy="286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68185" t="70434" r="0" b="19347"/>
          <a:stretch/>
        </p:blipFill>
        <p:spPr>
          <a:xfrm>
            <a:off x="2124000" y="4581360"/>
            <a:ext cx="4537080" cy="1946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74172" t="58351" r="0" b="0"/>
          <a:stretch/>
        </p:blipFill>
        <p:spPr>
          <a:xfrm>
            <a:off x="4788000" y="1341360"/>
            <a:ext cx="3219480" cy="2766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зерные разруш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893080" cy="4189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308720" y="41497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985080" cy="5040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Экосистема озе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Озёра располагаются в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Озёра располагаются в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3789360"/>
            <a:ext cx="8496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углублениях суш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Озёра, из которых вода не вытекает, называются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Озёра, из которых вода не вытекает, называются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3645000"/>
            <a:ext cx="8496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ссточным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Озёра, из которых вода вытекает, называются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Озёра, из которых вода вытекает, называются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3789360"/>
            <a:ext cx="8496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точным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5:02:48Z</dcterms:created>
  <dc:creator>2</dc:creator>
  <dc:description/>
  <dc:language>en-US</dc:language>
  <cp:lastModifiedBy>2</cp:lastModifiedBy>
  <dcterms:modified xsi:type="dcterms:W3CDTF">2007-12-24T10:16:52Z</dcterms:modified>
  <cp:revision>8</cp:revision>
  <dc:subject/>
  <dc:title>Экосистема "озеро"</dc:title>
</cp:coreProperties>
</file>