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770-12E7-49BC-B243-7BCF100B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B3F-8B5C-42A5-9106-8C7CEB2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E96-6D81-4BFC-9223-9C86B0D0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FAD-F979-4555-BCB3-AD5D05A1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1F3-2987-491D-96B1-98D4F557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CEB-28F8-4592-A098-69664A39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1EA-943D-4F17-AFA9-BA956885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E92-C7BD-4C43-93E3-69E6CB5F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73C-C0D1-4CCA-888F-7E9CD75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79D-B404-4C01-B0C0-863C857E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A93-6932-4128-B3B3-F986E691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488-42BD-4A3F-82D1-232B2A0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6FED-6835-4597-BFAE-EFEC182F3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идактическая модель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еб-квест»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4941720"/>
            <a:ext cx="6624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М. Шайдурова, учитель английского языка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У «Берёзовская средняя общеобразовательная школа 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ие навыки необходим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выки поиска, анализа информа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мения хранить, передавать, сравнивать и на основе сравнения синтезировать новую информацию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итически мыслить, решать сложные проблемы на основе анализа обстоятельств и соответствующей информа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звешивать альтернативные мн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о принимать продуманные решения, брать на себя ответственность за их реализац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ведение в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иперссылки и ссылки на другие источ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исание процесса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о презентации результ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итерии оценивания результ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ведение в тем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ая задача формулируется как проблемная ситуация, в наглядной и увлекательной фор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б-квест «Животные тропиков»: «В зоопарке Индианаполиса принято решение расширить секцию тропиков и для этого необходима информация о животных, живущих в тропиках. Ваша группа состоит из ученых-экспертов зоопарка, направляющихся в крупные тропические леса Южной Америки, Африки и Южной Азии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ое – пробудить интерес, повысить мотив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облемный подх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иктивный характер проблемной ситу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блемный подход важен для оценки результатов работы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точные критерии тематического соответствия результатов работы, чем при задании просто собрать лексическую информацию 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мет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з описания исходной ситуации вытекает распределение различных ролей внутри рабочей групп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ный харак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ределение ролей создает важную предпосылку для коллективного обуч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ивидуальной ответственности и сотрудниче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распределения индивидуальных заданий снимает проблему оценки результатов рабо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ого подх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ри формулировке задан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задани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ть информацию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lling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ить информацию в единое целое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tion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ть загадку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tery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Задания из области журналист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istic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ть и спроектировать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творческий продукт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e Product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нуть единое предложение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us Building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ь других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uasion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амого себя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ализ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tical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решение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gment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ать и исследовать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Task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б-квест – это тренировка способности мысл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, процесс работы и презентация результатов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ы не только интернет-ссылки, но и книги из школьной библиотеки и другие материал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квес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для работы учащихся может находиться на различных сайтах, ссылки на которые предлагаются в самом веб-квест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обное и детальное описание процесса работы включая источники информации и критерии оценивания результа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формулированы четкие требования к форме и содержанию презентации, что неизбежно сказывается на выборе аргументов и расставлении акцен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уются четкие рекомендации по созданию определенного вида текста презентаци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нап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uasive Essay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для проведения оценивания работы – как самооценки, так и оценивания работы в группе – необходимая составная часть веб-квест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ценивании содержания презентации действуют критерии, обозначенные в описании процесса рабо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ерии дифференцированы в соответствии с конкретными оцен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ые критерии оценивания результатов вытекают из основной цели веб-квестов – научить учиться, а это значит – уметь самостоятельно планировать процесс обучения и проводить рефлексию как собственных результатов, так и результатов работы в групп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оль преподават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двигает проблему, вызывает интер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авит задачи в соответствии с интересами и способностями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казывает помощь в процессе работы, консультирует, при необходимости направля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ет необходимые условия обуч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комендует проверенные ресурсы сети и другие материа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Unicode MS"/>
              </a:rPr>
              <a:t>Работа с веб-квес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сит систематический харак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жна быть понятной и доступной, отвечающей всем требованиям интерактив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жна быть включена в учебную программу и содержать в себе предметные и межпредметные стандар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ебует больших затрат времени и сил со стороны преподавателя (использование опыта колле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еобходимость новых дидактических модел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нет-эйфория без убедительных дидактических идей однозначно приведет в туп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-квест- один из путей достижения дидактического прироста уро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новные требования к Веб-квест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сное вступление, где четко описаны главные роли участ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блемный вопрос и задание, которое понятно, интересно, выполним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тко определен итоговый результат самостоятельной работы учащего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ок информационных ресурсов( в электронном виде- на компакт-дисках, видео и аудио-носителях. В бумажном виде, ссылки на ресурсы в Интернет, список литературы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35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ание процедуры работы, которую необходимо выполнить каждому учащемуся при самостоятельном выполнении задания(этапы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ководство к действиям( как организовать и представить собранную информацию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ение, в котором суммируется опыт, полученный учащимися при выполнении самостоятельной работы над квест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данной формы обучения – поставить в центр процесса обучения ученика и научить его учиться более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сходит смена традиционной парадигмы обучения на парадигму проблемного обуч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б-квест – модель урока, соответствующая духу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Веб-квес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овременном английском языке слово означает «всесторонний поиск или исследование» (см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xford Dictionary of the  English  Language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a long  search for  something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 quest for gold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origin a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stio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man Dictionary of Contemporary English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a long  search  for  something that is  difficult  to find (his   long  quest for truth, for human  happiness, for peac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Веб-квест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начальное значение английского слова 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т»  - это «рыцарские походы, описанные в литературе средневековья», в современном английском языке слово означает «всесторонний поиск или исследование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б-квест» - это решение поисковых задач с помощью ресурсов Интерн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ый поис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следова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есно сформулированных вопрос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та проводится в группах с привлечением аутентичных источ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рне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материалы – книги, журналы, собственные фотографии и т.д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048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стория метода «Веб-квест»</a:t>
            </a:r>
            <a:r>
              <a:rPr b="0" lang="ru-RU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етод был разработан в рамках теории о конструктивистском подходе к обучению. Педагогика конструктивизма связана с идеями Джона Дью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учение должно проходить как трудовая и игровая деятельность, в которой развиваются способности к самообучению и самообразованию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ыт и знания приобретаются путем «делания», в ходе исследования проблемной обучающей среды, нахождения ответов на спорные вопросы и восхождения от частного к общему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знания нельзя передать в готовом виде, а можно создать условия для успешного самоконструирования и самовозрастания знаний учащихс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знание строится учениками, вовлеченными в активное обуч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е положения Веб-квеста были разработаны в середине 90-х гг. 20 в. американским ученым Берни Доджем и австралийским ученым Томом Марчем. Их идеи подхватил и развил швейцарец Хайнц Моз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принципы веб-квестов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ектное обучение с помощью Интернета, мультимедийных средств, а такж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х средств обуче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 планируемую и реализуемую творческую исследовательскую деятельность, имеющую свои цели, содержание, методы исследования и созданный учащимися продукт в виде проект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ое обучение (обучение, погруженное в общение, создающее условия для развития умений работать в команде, т.е. учиться вместе, а не рядо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автоном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ется в способности самостоятельно управлять своей деятельность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аутентич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разнообразной аутентичной информа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Центральная роль Интерн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иск и подготовка материалов, допускающих более открытые формы обучения, без использования Интернета быстро наталкивается на границы возможностей преподавателей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продуманном использовании Интернет – это настоящая сокровищница для урока иностранн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ему именно Веб-квес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б-кве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форма обучения, способствующая самостоятельности и автономности обу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можность для глубокого и интенсивного изучения определенной тем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зентация результатов рабо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елью проинформировать других и побудить к подобным видам деятельности. В таком случае использование интернета превращает процесс обучения в «учебную спираль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чение языка в школе или университете возможно только путем предоставления ограниченной автономности. Реализация данного принципа обучения требует четких рамок и структу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-квест – сложная дидактическая модель урока, проект с четко выраженной структур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99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акие умения формируются у учащихс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самостоятельности учащегося , приспособленного к жизни, умеющего ориентироваться в разнообраз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познавательных, творческих навык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умений самостоятельно конструировать свои зн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умений ориентироваться в информационном пространств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критического мышле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навыков информационн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использованием такой технологии учитель получает действенный способ формирования мотивации учения, творческого осмысления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19:48Z</dcterms:created>
  <dc:creator>Баев О.Ю.</dc:creator>
  <dc:description/>
  <dc:language>en-US</dc:language>
  <cp:lastModifiedBy>2</cp:lastModifiedBy>
  <dcterms:modified xsi:type="dcterms:W3CDTF">2007-12-18T08:37:30Z</dcterms:modified>
  <cp:revision>67</cp:revision>
  <dc:subject/>
  <dc:title>Дидактическая модель  «Веб-квест»</dc:title>
</cp:coreProperties>
</file>